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sr.wikipedia.org/wiki/&#1040;&#1091;&#1090;&#1086;&#1085;&#1086;&#1084;&#1085;&#1080;_&#1085;&#1077;&#1088;&#1074;&#1085;&#1080;_&#1089;&#1080;&#1089;&#1090;&#1077;&#1084;" TargetMode="External"/><Relationship Id="rId2" Type="http://schemas.openxmlformats.org/officeDocument/2006/relationships/hyperlink" Target="https://sr.wikipedia.org/w/index.php?title=&#1041;&#1072;&#1079;&#1086;&#1082;&#1086;&#1085;&#1089;&#1090;&#1088;&#1080;&#1082;&#1086;&#1090;&#1086;&#1088;&#1080;&amp;action=edit&amp;redlink=1" TargetMode="External"/><Relationship Id="rId3" Type="http://schemas.openxmlformats.org/officeDocument/2006/relationships/hyperlink" Target="https://sr.wikipedia.org/wiki/&#1050;&#1088;&#1074;&#1085;&#1077;_&#1087;&#1083;&#1086;&#1095;&#1080;&#1094;&#1077;" TargetMode="External"/><Relationship Id="rId4" Type="http://schemas.openxmlformats.org/officeDocument/2006/relationships/hyperlink" Target="https://sr.wikipedia.org/wiki/Tromboksan" TargetMode="External"/><Relationship Id="rId5" Type="http://schemas.openxmlformats.org/officeDocument/2006/relationships/hyperlink" Target="https://sr.wikipedia.org/wiki/&#1057;&#1077;&#1088;&#1086;&#1090;&#1086;&#1085;&#1080;&#1085;" TargetMode="External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sr.wikipedia.org/wiki/&#1050;&#1088;&#1074;&#1085;&#1077;_&#1087;&#1083;&#1086;&#1095;&#1080;&#1094;&#1077;" TargetMode="External"/><Relationship Id="rId2" Type="http://schemas.openxmlformats.org/officeDocument/2006/relationships/hyperlink" Target="https://sr.wikipedia.org/wiki/Tromboksan" TargetMode="External"/><Relationship Id="rId3" Type="http://schemas.openxmlformats.org/officeDocument/2006/relationships/hyperlink" Target="https://sr.wikipedia.org/wiki/&#1057;&#1077;&#1088;&#1086;&#1090;&#1086;&#1085;&#1080;&#1085;" TargetMode="External"/><Relationship Id="rId4" Type="http://schemas.openxmlformats.org/officeDocument/2006/relationships/hyperlink" Target="https://sr.wikipedia.org/wiki/ADP" TargetMode="External"/><Relationship Id="rId5" Type="http://schemas.openxmlformats.org/officeDocument/2006/relationships/hyperlink" Target="https://sr.wikipedia.org/wiki/Fibronektin" TargetMode="External"/><Relationship Id="rId6" Type="http://schemas.openxmlformats.org/officeDocument/2006/relationships/hyperlink" Target="https://sr.wikipedia.org/w/index.php?title=&#1051;&#1072;&#1084;&#1080;&#1085;&#1080;&#1085;&amp;action=edit&amp;redlink=1" TargetMode="External"/><Relationship Id="rId7" Type="http://schemas.openxmlformats.org/officeDocument/2006/relationships/hyperlink" Target="https://sr.wikipedia.org/w/index.php?title=&#1042;&#1080;&#1090;&#1088;&#1086;&#1085;&#1077;&#1082;&#1090;&#1080;&#1085;&amp;action=edit&amp;redlink=1" TargetMode="External"/><Relationship Id="rId8" Type="http://schemas.openxmlformats.org/officeDocument/2006/relationships/hyperlink" Target="https://sr.wikipedia.org/wiki/&#1050;&#1086;&#1083;&#1072;&#1075;&#1077;&#1085;" TargetMode="External"/><Relationship Id="rId9" Type="http://schemas.openxmlformats.org/officeDocument/2006/relationships/hyperlink" Target="https://sr.wikipedia.org/wiki/&#1063;&#1091;&#1083;&#1085;&#1072;_&#1115;&#1077;&#1083;&#1080;&#1112;&#1072;" TargetMode="External"/><Relationship Id="rId10" Type="http://schemas.openxmlformats.org/officeDocument/2006/relationships/hyperlink" Target="https://sr.wikipedia.org/wiki/&#1055;&#1088;&#1086;&#1090;&#1077;&#1080;&#1085;" TargetMode="External"/><Relationship Id="rId11" Type="http://schemas.openxmlformats.org/officeDocument/2006/relationships/hyperlink" Target="https://sr.wikipedia.org/w/index.php?title=&#1060;&#1086;&#1085;_&#1042;&#1080;&#1083;&#1077;&#1073;&#1088;&#1072;&#1085;&#1076;&#1086;&#1074;_&#1092;&#1072;&#1082;&#1090;&#1086;&#1088;&amp;action=edit&amp;redlink=1" TargetMode="External"/><Relationship Id="rId12" Type="http://schemas.openxmlformats.org/officeDocument/2006/relationships/hyperlink" Target="https://sr.wikipedia.org/wiki/Fibrinogen" TargetMode="External"/><Relationship Id="rId1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sr.wikipedia.org/wiki/&#1055;&#1088;&#1086;&#1090;&#1077;&#1080;&#1085;" TargetMode="Externa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1052280"/>
            <a:ext cx="8229600" cy="14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нтегрисане ак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емске студије фармациј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0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Клиничка фармациј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684360" y="2852640"/>
            <a:ext cx="77724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ционална примена фармакотерапије код  хематолошких поремећаја. Анемије. Леукемије. Поремећаји коагулациј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 пред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547640" y="4976640"/>
            <a:ext cx="65138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Летњи семестар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2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Унутрашњи пут активације коагулације кр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вреда КС изазива активацију фактора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(Хагеманов фактор) и ослобадање фосфолипида из поврецених крвних плоцица. Активирани факор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делује ензимски на фактор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и активира 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а ову реакцију пот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бан је и кининоген велике молекулске масе а и прекаликреин је убрзава. Активирани фактор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(фактор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а) сада активирафакто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.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Активирани факто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елује заједно са фактор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 ослобођеним фосфолипидима из тромбоцита на фактор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 активира 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Коагулација кр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Content Placeholder 4" descr=""/>
          <p:cNvPicPr/>
          <p:nvPr/>
        </p:nvPicPr>
        <p:blipFill>
          <a:blip r:embed="rId1"/>
          <a:stretch/>
        </p:blipFill>
        <p:spPr>
          <a:xfrm>
            <a:off x="1320840" y="2060640"/>
            <a:ext cx="6502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Тестови згрушавања кр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арцијално тромбопластинско време (аПТ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отромбинско време (П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Време крвар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Време коагул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-д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O1 A</a:t>
            </a:r>
            <a:r>
              <a:rPr b="0" lang="sr-RS" sz="3200" spc="-1" strike="noStrike">
                <a:solidFill>
                  <a:srgbClr val="ff0000"/>
                </a:solidFill>
                <a:latin typeface="Comic Sans MS"/>
              </a:rPr>
              <a:t>нтитромботичка средства (антикоагуланс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2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Антихеморагици (антифибринолитици и Витамин 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3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Антианемици (препаратати Фе, Витамин Б12 и фолна кисел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5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Средства за замену крви и перфузиони раств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9280" y="1400040"/>
          <a:ext cx="8785440" cy="4772160"/>
        </p:xfrm>
        <a:graphic>
          <a:graphicData uri="http://schemas.openxmlformats.org/drawingml/2006/table">
            <a:tbl>
              <a:tblPr/>
              <a:tblGrid>
                <a:gridCol w="3240360"/>
                <a:gridCol w="2736720"/>
                <a:gridCol w="2808360"/>
              </a:tblGrid>
              <a:tr h="57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тикоагулан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ставниц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анизам деј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4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нисти витамина 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фарин, аценокумарол, фенинди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хибиција карбоксилације ФК 2, 7, 9, 10 и протеина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епарински антикоагулан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епари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омолекуларни хепарини (еноксапарин, далтепарин, ревипарин, надропарин, тинзапари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зује за антитромбин 3 и повећава његово инхибиторно дејство на тромбин, фактор 9 и 10, НФХ-факто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хибитори агрегациј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илсалицилна киселина, дипиридамол, тиклодипин, прасугрел, клопидогрел, абциксимаб, ептифибатид и тирофиб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хибиција простагладнина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P, 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цепторе з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P, 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зивање з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b/IIIa 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цепторе и инактивациј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4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нзи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птокиназа,анистреплаза, урокин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ација плазминогена у плаз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ректни инхибитори тромб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бигатран етексилат, ривароксабан, апиксабан, лепирудин, аргатробан, бивалируд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хибиција тромбина, фактор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07" name="Ink 5" descr=""/>
          <p:cNvPicPr/>
          <p:nvPr/>
        </p:nvPicPr>
        <p:blipFill>
          <a:blip r:embed="rId1"/>
          <a:stretch/>
        </p:blipFill>
        <p:spPr>
          <a:xfrm>
            <a:off x="3868560" y="3095640"/>
            <a:ext cx="1080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Варфар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ма предност у односу на деривате инданди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етаболизам прек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450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9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A2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 излучивање преко жу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а превенцију емболије код дубоке венске тромбозе, за превенцију тромбозе после уградње вештачких валвула и код анеуризме срца, за превенцију тромбоемболијских компликација код АФ услед митралне стенозе или неке болести миока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рални антикоагуланси не делују на формиране тром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озирање према протромбинском времену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ernation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maliz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io)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(оптимално дозирано ако ј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R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д 2,5 до 3,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а постизање терапијског ефекта потребо је 3 д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итамин К је антидот (свежа плазма или концентровани Ф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Варфар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ежељена дејства су појава крварења у ГИТ-у, ЦНС-у, тромбоза поткожних вена, оштећење јетре, дијареја, алопеција, ливидни пр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И-повећана склоност ка крварењима тј. Пептички улкус, малигна хипертензија, бактеријски ендокардитис, тромбоцитопени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едозвољена примена у трудноћ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Хепар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арентерална примена дозвољена само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i="1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sr-R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етаболизам у јетри и делом се не метаболише већ реналним путем елимини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ористи се за превенцију и лечење дубоке венске тромбозе, емболије, као и профилакса тромбозе васкуларних графтова после уградње, постоперативне венске тромбозе и као додатна терапија код инфаркта миокар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епарин не треба примењивати дуже од 7 д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Терапијска доза је 5-10,0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J/6h i.v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офилактичка доза је 50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J/12 h s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оза се прилагођава у односу на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T 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1,5-2 пута дуже у односу на особе које не примају терапиј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нтидот-протамин сулфат (1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J/1mg 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Slide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Хепар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ајчешћа нежељена дејства су крварење и рана и одложена тромбоцитопениј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И-стања код којих је повећан ризик од крвар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озвољена примена у трудноћ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Slide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Slide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588360"/>
          </a:xfrm>
          <a:prstGeom prst="rect">
            <a:avLst/>
          </a:prstGeom>
          <a:ln w="0">
            <a:noFill/>
          </a:ln>
        </p:spPr>
      </p:pic>
      <p:pic>
        <p:nvPicPr>
          <p:cNvPr id="119" name="Slide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KB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3840" y="14241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50-D89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Болести крви и крвотворних органа и поремећаји имун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50-D53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Анемије изроковане исхра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55-D59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Анемије узроковане хемолиз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60-D64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Апластичне и друге анем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65-D69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Поремећаји згрушавања крв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АТ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1 A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нтитромботичка средства (антикоагуланс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2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Антихеморагици (антифибринолитици и Витамин 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3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Антианемици (препаратати Фе, Витамин Б12 и фолна кисел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5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Средства за замену крви и перфузиони раств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1 A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нтитромботичка средства (антикоагуланс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O2 </a:t>
            </a:r>
            <a:r>
              <a:rPr b="0" lang="sr-RS" sz="3200" spc="-1" strike="noStrike">
                <a:solidFill>
                  <a:srgbClr val="ff0000"/>
                </a:solidFill>
                <a:latin typeface="Comic Sans MS"/>
              </a:rPr>
              <a:t>Антихеморагици (антифибринолитици и Витамин 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3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Антианемици (препаратати Фе, Витамин Б12 и фолна кисел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5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Средства за замену крви и перфузиони раств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Витамин 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ипосолубилни витамин у два облика филохинон и менахинон (К1 и К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невна потреба је око 1микрограм/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интетки облик је менадион, К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ористи се за лечење предозорања оралним антикоагилансима, за лечење поремећаја коагулације у току жутице, за превенцију хеморагичне болести код новорођенчета, код дефицита витамина 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1 A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нтитромботичка средства (антикоагуланс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2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Антихеморагици (антифибринолитици и Витамин 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O3 </a:t>
            </a:r>
            <a:r>
              <a:rPr b="0" lang="sr-RS" sz="3200" spc="-1" strike="noStrike">
                <a:solidFill>
                  <a:srgbClr val="ff0000"/>
                </a:solidFill>
                <a:latin typeface="Comic Sans MS"/>
              </a:rPr>
              <a:t>Антианемици (препаратати Фе, Витамин Б12 и фолна кисел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5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Средства за замену крви и перфузиони раств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Анем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немија или малокрвност настаје као последица смањеног стварања црвених крвних зрна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лавна улога црвених крвних зрнаца је пренос кисеоника од плућа до органа којима је кисеоник потребан за нормално функционисање, али и пренос угљен-диоксида од ткива до плућа. Од органа који имају повећане потребе за кисеоником су срце, мозак, мишић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немија се дефинише као </a:t>
            </a:r>
            <a:r>
              <a:rPr b="0" lang="sr-RS" sz="2000" spc="-1" strike="noStrike" u="sng">
                <a:solidFill>
                  <a:srgbClr val="3c8c93"/>
                </a:solidFill>
                <a:uFillTx/>
                <a:latin typeface="Arial"/>
              </a:rPr>
              <a:t>апсолутно смањење укупне масе еритроцита и количине хемоглобин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 Према критеријумима Светске здравствене организације анемија код мушкараца се карактерише снижењем хемоглобина испод 1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или хематокрита испод 39 посто, односно код жена снижењем хемоглобина испод 1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или хематокрита испод 37 пост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Анем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од људи се најчешће јавља сидеропенијска анемија услед недостатка гвожђа. У ризичну групу спадају жене, труднице, старије особе, вегетеријанци, деца и адолесцен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Лабораторијски параметри сидеропенијске анемије у периферној крвној слици су снижене вредности хемоглобина, снижене вредности просечне запремине еритроцита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CV)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 просечне количине хемоглобина у еритроцитима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CH)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з повишене вредности ширине дистрибуције волумена еритроцита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DW).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 ширем биохемизму уочавају се снижене вредности серумског гвожђа и феритина уз повишене вредности укупне способности везивања гвожђа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BC).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редност серумског феритина испод &lt;1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g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је дијагностички критеријум за сидеропенијску анемиј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Препарати гвожђ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 организму има отприлике 3,5-5 г гвожђа. 65-70% тог гвожђа се налази у хемоглобину, 4% у миоглобину, 2,5% у коштаној сржи, 0,1% у ензимима који садрже гвожђе (нпр. цитохроми), а 25% преосталог гвожђа налази се у резерви у јетри у облику феритина и хемосидер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невне потребе за гвожђем износе 1 мг дневно за мушкарце и 2 мг за жене. Гвожђе се у гастроинтестиналном систему апсорбује од 10 до 15 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Препарати гвожђ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ефицит гвожђа у организму се може проценити на основу мерења концентрације хемоглобина у крви јер се зна да 1Л крви (14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хемоглобина) садржи око 47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вожђа. Ако пацијент има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хемоглобина то значи да му недостај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(140-100/ 140) х 47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=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вожђа п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р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знос помножити са 5 (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) + 500 mg (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езерв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Препарати гвожђ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 оралним препаратима се користе једињења двовалентног гвожђа - гвожђе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 глицин сулфат, гвожђе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 фумарат и гвожђе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 сулфат или једињења тровалентног гвожђа као што су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 гвожђе протеинсукцинилат и гвожђе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 хидроксиполималтизни комплек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Лечење оралним гвожђем примењује се најмање 3 до 6 месе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Slide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Ink 4" descr=""/>
          <p:cNvPicPr/>
          <p:nvPr/>
        </p:nvPicPr>
        <p:blipFill>
          <a:blip r:embed="rId2"/>
          <a:stretch/>
        </p:blipFill>
        <p:spPr>
          <a:xfrm>
            <a:off x="6622920" y="6338880"/>
            <a:ext cx="417600" cy="216000"/>
          </a:xfrm>
          <a:prstGeom prst="rect">
            <a:avLst/>
          </a:prstGeom>
          <a:ln w="0">
            <a:noFill/>
          </a:ln>
        </p:spPr>
      </p:pic>
      <p:pic>
        <p:nvPicPr>
          <p:cNvPr id="138" name="Ink 5" descr=""/>
          <p:cNvPicPr/>
          <p:nvPr/>
        </p:nvPicPr>
        <p:blipFill>
          <a:blip r:embed="rId3"/>
          <a:stretch/>
        </p:blipFill>
        <p:spPr>
          <a:xfrm>
            <a:off x="6621480" y="6313320"/>
            <a:ext cx="419040" cy="270000"/>
          </a:xfrm>
          <a:prstGeom prst="rect">
            <a:avLst/>
          </a:prstGeom>
          <a:ln w="0">
            <a:noFill/>
          </a:ln>
        </p:spPr>
      </p:pic>
      <p:pic>
        <p:nvPicPr>
          <p:cNvPr id="139" name="Ink 6" descr=""/>
          <p:cNvPicPr/>
          <p:nvPr/>
        </p:nvPicPr>
        <p:blipFill>
          <a:blip r:embed="rId4"/>
          <a:stretch/>
        </p:blipFill>
        <p:spPr>
          <a:xfrm>
            <a:off x="6603840" y="6318360"/>
            <a:ext cx="454320" cy="225360"/>
          </a:xfrm>
          <a:prstGeom prst="rect">
            <a:avLst/>
          </a:prstGeom>
          <a:ln w="0">
            <a:noFill/>
          </a:ln>
        </p:spPr>
      </p:pic>
      <p:pic>
        <p:nvPicPr>
          <p:cNvPr id="140" name="Ink 7" descr=""/>
          <p:cNvPicPr/>
          <p:nvPr/>
        </p:nvPicPr>
        <p:blipFill>
          <a:blip r:embed="rId5"/>
          <a:stretch/>
        </p:blipFill>
        <p:spPr>
          <a:xfrm>
            <a:off x="6572160" y="6288120"/>
            <a:ext cx="530280" cy="263520"/>
          </a:xfrm>
          <a:prstGeom prst="rect">
            <a:avLst/>
          </a:prstGeom>
          <a:ln w="0">
            <a:noFill/>
          </a:ln>
        </p:spPr>
      </p:pic>
      <p:pic>
        <p:nvPicPr>
          <p:cNvPr id="141" name="Ink 8" descr=""/>
          <p:cNvPicPr/>
          <p:nvPr/>
        </p:nvPicPr>
        <p:blipFill>
          <a:blip r:embed="rId6"/>
          <a:stretch/>
        </p:blipFill>
        <p:spPr>
          <a:xfrm>
            <a:off x="6588000" y="6416640"/>
            <a:ext cx="555840" cy="282600"/>
          </a:xfrm>
          <a:prstGeom prst="rect">
            <a:avLst/>
          </a:prstGeom>
          <a:ln w="0">
            <a:noFill/>
          </a:ln>
        </p:spPr>
      </p:pic>
      <p:pic>
        <p:nvPicPr>
          <p:cNvPr id="142" name="Ink 9" descr=""/>
          <p:cNvPicPr/>
          <p:nvPr/>
        </p:nvPicPr>
        <p:blipFill>
          <a:blip r:embed="rId7"/>
          <a:stretch/>
        </p:blipFill>
        <p:spPr>
          <a:xfrm>
            <a:off x="6564240" y="6292800"/>
            <a:ext cx="528840" cy="222480"/>
          </a:xfrm>
          <a:prstGeom prst="rect">
            <a:avLst/>
          </a:prstGeom>
          <a:ln w="0">
            <a:noFill/>
          </a:ln>
        </p:spPr>
      </p:pic>
      <p:pic>
        <p:nvPicPr>
          <p:cNvPr id="143" name="Ink 10" descr=""/>
          <p:cNvPicPr/>
          <p:nvPr/>
        </p:nvPicPr>
        <p:blipFill>
          <a:blip r:embed="rId8"/>
          <a:stretch/>
        </p:blipFill>
        <p:spPr>
          <a:xfrm>
            <a:off x="6594480" y="6399360"/>
            <a:ext cx="577800" cy="233280"/>
          </a:xfrm>
          <a:prstGeom prst="rect">
            <a:avLst/>
          </a:prstGeom>
          <a:ln w="0">
            <a:noFill/>
          </a:ln>
        </p:spPr>
      </p:pic>
      <p:pic>
        <p:nvPicPr>
          <p:cNvPr id="144" name="Ink 11" descr=""/>
          <p:cNvPicPr/>
          <p:nvPr/>
        </p:nvPicPr>
        <p:blipFill>
          <a:blip r:embed="rId9"/>
          <a:stretch/>
        </p:blipFill>
        <p:spPr>
          <a:xfrm>
            <a:off x="6543720" y="6302520"/>
            <a:ext cx="566640" cy="218880"/>
          </a:xfrm>
          <a:prstGeom prst="rect">
            <a:avLst/>
          </a:prstGeom>
          <a:ln w="0">
            <a:noFill/>
          </a:ln>
        </p:spPr>
      </p:pic>
      <p:pic>
        <p:nvPicPr>
          <p:cNvPr id="145" name="Ink 12" descr=""/>
          <p:cNvPicPr/>
          <p:nvPr/>
        </p:nvPicPr>
        <p:blipFill>
          <a:blip r:embed="rId10"/>
          <a:stretch/>
        </p:blipFill>
        <p:spPr>
          <a:xfrm>
            <a:off x="6627960" y="6418440"/>
            <a:ext cx="680760" cy="218880"/>
          </a:xfrm>
          <a:prstGeom prst="rect">
            <a:avLst/>
          </a:prstGeom>
          <a:ln w="0">
            <a:noFill/>
          </a:ln>
        </p:spPr>
      </p:pic>
      <p:pic>
        <p:nvPicPr>
          <p:cNvPr id="146" name="Ink 13" descr=""/>
          <p:cNvPicPr/>
          <p:nvPr/>
        </p:nvPicPr>
        <p:blipFill>
          <a:blip r:embed="rId11"/>
          <a:stretch/>
        </p:blipFill>
        <p:spPr>
          <a:xfrm>
            <a:off x="9655200" y="4137120"/>
            <a:ext cx="108000" cy="21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Препарати гвожђ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s://mediately.co/rs/drugs/prepratigvozd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Цијанокобаламин је хидросолубилни витамин, депонован у јетри (50-90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Антианемични вита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Његова најважнија улога је да делује као коензим за редукцију рибонуклеотида у дезоксирибонуклеотиде, неопходну степеницу у репликацији гена. Две главне функције витамина Б12 су стимулација раста и стимулација формирања и сазревања еритроцита. Правилан метаболизам протеина и аминокиселина (метионин, триптофан, тирозин), синтеза нуклеинских киселина, спречава појаву пернициозне анемије, неопходан је за нормалну функцију и одржавање интегритета нервних и епителних ћелиј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Витамин Б12 као и други Б витамини има важну улогу у претварању масти, угљених хидрата и беланчевина у енергиј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Основна функција кр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Транспортн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(кисеоник, угљен диоксид, продукти караболизма, нутријенти, хормон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Регулаторна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(пуферски систе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Заштитн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(инфекције, крварењ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Фолна киселина (Витамин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 организму се фолна киселина јавља у редукованом облику, 5,6,7,8-тетрахидрофолна киселина, односно као коензим Ф. Фолна киселина у организму учествује у синтези пуринских база, холина и неких аминкокиселина. Сем тога она је од велике важности за правилан развој ћелија кр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ористи се за превенцију и терапију мегалобластне анемије изазване дефицитом фолата код смањеног уноса храном, малапсорпцијског синдрома повезана с болестима јетре, болестима танког црева, дуготрајним стресом или инфекцијама и повећаним излучивањ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Фолна киселина (Витамин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Фолну киселину треба давати и кад постоји повећана потреба током трудноће и дојења, дуготрајног лечења антагонистима фолне киселине (метотрексат), антиконвулзивима, адренокортикоидима, аналгетицима, андрогеном, сулфасалазином и код хроничне хемолизне анем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Еритропоетин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P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Еритропоетин је хематопоезни фактор раста кога производе највише ћелије бубрега. У терапијске сврхе се користи рекомбинантни хумани еритропоетин, који се производи из ћелија сисаваца рекомбинантном ДНК технологиј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акав еритропоетин производи се у две форме: алфа и бета, али оне имају исти клинички значај па је у терапијској примени јединствени епоетин или како се још назива - ЕП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Еритропоетин стимулише размножавање еритроцита и њихово сазревање у коштаној срж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Леукем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Леукемиј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 је малигна болест ћелија крви и коштане сржи који настаје услед неконтролисаног размножавања ћелија крви и њихових претходника у коштаној сржи. Ова болест настаје најчешће из белих крвних зрнаца (леукоцита) и њихових претходника, али може настати из осталих ћелија крви. У крви и коштаној сржи оболелих од леукемије може се најчешће наћи мноштво незрелих леукоцита (бла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Леукем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Леукемије се деле на акутне (до 20% бласти у аспирату костне сржи) и хроничне (преко 2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ема врсти ћелија из којих настају на: лимфатичне, које настају из лимфоцита и мијелоичне леукемије, које настају из мијелоичне лозе крвних ћелија (еозинофили, неутрофили, базофили, еритроцити, мегакариоци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 основу броја леукоцита у крви на: леукемичне, сублеукемичне и алеукемич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Леукем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Могућност излечења зависи од изгледа ћелија леукемије под микроскопом, колико се леукемија проширила,  животној доби болесника и његовом општем здравственом стању. Циљ лечења је ремисија малигног тумора, а то се постиже кад су налази периферне крви и коштане сржи нормални. Акутна лимфоцитна леукемија лечи се комбинацијом хемотерапије и цитоста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1 A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нтитромботичка средства (антикоагуланс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2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Антихеморагици (антифибринолитици и Витамин 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3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Антианемици (препаратати Фе, Витамин Б12 и фолна кисел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O5 </a:t>
            </a:r>
            <a:r>
              <a:rPr b="0" lang="sr-RS" sz="3200" spc="-1" strike="noStrike">
                <a:solidFill>
                  <a:srgbClr val="ff0000"/>
                </a:solidFill>
                <a:latin typeface="Comic Sans MS"/>
              </a:rPr>
              <a:t>Средства за замену крви и перфузиони раств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Slide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Slide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Slide" descr=""/>
          <p:cNvPicPr/>
          <p:nvPr/>
        </p:nvPicPr>
        <p:blipFill>
          <a:blip r:embed="rId2"/>
          <a:stretch/>
        </p:blipFill>
        <p:spPr>
          <a:xfrm>
            <a:off x="152280" y="162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3488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Хвала на пажњи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2287080"/>
            <a:ext cx="822960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Хемост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рварење (лат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aemorrhagi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е манифестује као истицање, односно губитак крви из крвног суда услед повреде или патолошког проце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драва особа може поднети губитак од око 10 до 15 посто укупног волумена крви без озбиљнијих медицинских последица. Волумен крви креће се у просеку од 5 до 6 лита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стоје и одређени поремећаји који се повезују с крварењем. Међу њима је најпознатија хемофилија – генетски насљедна болест која се очитује у недостатку одређених природних фактора згрушавања кр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Хемост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сновни процес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ужавање крвног суда (констрикциј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тварање тромбоцитног че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Згрушавање крви (коагулација и лиз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Примарна фаза хемоста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ужавање крвног суда (констрикциј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дмах после оштећења крвног суда долази до његовог сужавања. На тај начин се смањује губитак крви из отвора на суду. Сужавање је последица нервних рефлекса </a:t>
            </a:r>
            <a:r>
              <a:rPr b="0" lang="sr-R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импатичког систем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, локалне контракције мишића крвног суда као одговор на оштећење и </a:t>
            </a:r>
            <a:r>
              <a:rPr b="0" lang="sr-R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азоконстрикторних супстанц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 из повређеног ткива и </a:t>
            </a:r>
            <a:r>
              <a:rPr b="0" lang="sr-R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крвних плочиц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 нпр. </a:t>
            </a:r>
            <a:r>
              <a:rPr b="0" lang="sr-R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тромбоксан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 А2, </a:t>
            </a:r>
            <a:r>
              <a:rPr b="0" lang="sr-R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серотонин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ит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Примарна фаза хемоста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565280"/>
            <a:ext cx="843588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2. Стварање тромбоцитног че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Тромбоцити (</a:t>
            </a:r>
            <a:r>
              <a:rPr b="0" lang="sr-R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рвне плочиц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) су крвне ћелије чија је улога управо да заустављају крварење из поврећеног суда. Уколико је повреда мала долази само до акумулације тромбоцита на месту повреде и њиховог повезивања у виду чепа, чиме се зауставља крварење. Уколико је повреда већа потребна је и активација система згрушав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ромбоксан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 А</a:t>
            </a:r>
            <a:r>
              <a:rPr b="0" lang="sr-R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sr-R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серотонин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sr-R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АДП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фибронектин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sr-R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ламинин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sr-R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витронектин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sr-R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колаг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ендотел крвног су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Тромбоцити располажу </a:t>
            </a:r>
            <a:r>
              <a:rPr b="0" lang="sr-R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рецепторим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 за ове </a:t>
            </a:r>
            <a:r>
              <a:rPr b="0" lang="sr-R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протеин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 тако да се везују за њих. Повезивање крвних плочица са колагеном крвног суда омогућава </a:t>
            </a:r>
            <a:r>
              <a:rPr b="0" lang="sr-R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Фон Вилебрандов фактор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 Овај фактор омогућава и повезивање између самих тромбоцита. У повезивању крвних плочица у тромбоцитни чеп учетвује и </a:t>
            </a:r>
            <a:r>
              <a:rPr b="0" lang="sr-R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фибриноген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 протеин крвне плазме чијом се активацијом ствара крвни угруш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Секундарна фаза хемоста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3. Згрушавање крви (коагулација и лиз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Овај процес почињу активаторске супстанце из зида крвног суда, крвних плочица и </a:t>
            </a:r>
            <a:r>
              <a:rPr b="0" lang="sr-R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отеин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 крвне плазме. Згрушавање крви се може активирати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спољашњим и унутрашњим системом коагулациј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 Као резултат ове реакције настаје ензимски комплекс-активатор протромбина, који неактивни протеин крвне плазме протромбин преводи у активни тромбин. Тромбин даље активира неактивни протеин плазме фибриноген у фибрин тако што га цепа на делове (мономере), које се међусобно повезују и граде мрежу у коју се хватају крвне ћелије. На тај начин формира се крвни угруш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У процесу згрушавања крви кључну улогу играју супстанце које се зову фактори коагулације к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Спољашњи пут активације коагулације кр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2287080"/>
            <a:ext cx="8002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пољашњи пут акти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ције згрушавања крви запоциње повредом зида крвног суда, због цега се из зида ослобада ткивни тромбопластин (факто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н се састоји од фосфолипида ткивних мембрана и липопротеинског комплекса који садржи један важан ензим. Код неких бактеријских инфекција могу неки бактеријски токсини – ендотоксини изазвати ослобадање овог фактора, што може довести до дисеминоване интраваскуларне коагулације (ДИК) односно веома тешког ст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Microsoft Office User</cp:lastModifiedBy>
  <dcterms:modified xsi:type="dcterms:W3CDTF">2023-02-06T11:55:44Z</dcterms:modified>
  <cp:revision>231</cp:revision>
  <dc:subject/>
  <dc:title>Slide 1</dc:title>
</cp:coreProperties>
</file>